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B474-E6F3-448F-95E4-2796C71B1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6718-647B-4EA9-A52A-A4862D6446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33FE-BB66-4D93-A1FC-EEE8510029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184A-3CF8-43E4-8E14-EE562C26BA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5AB3-C075-46A4-99A6-E538D6D285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A1D2-9DF1-43BC-8113-B4B749AB47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1E7F-A902-4295-AFB1-EF6A08CCCD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D78-BDAA-4042-913F-630266AB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0C9-0785-46E3-8BA4-283F5B5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92E-337B-4DE7-BAC6-FC1D9772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4D56-98E2-4001-A6E9-BF27BFF0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6E77-1CB1-40CC-872B-EC7C3162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7457-2D9C-4E6C-A3CE-205DD667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167A-8C63-449B-8AF4-FB02573E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9AAA-D8B1-4CB5-B65A-7CD9EED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E009-2CEF-4BF3-B912-EEFE9CA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8993-A2D4-4AE1-B85C-67E885AF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F8DE-6776-4993-99C7-9C37EBC9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B89-534E-4009-BE56-0E4F7C1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5B3-25D0-484C-802B-15C3199C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7565-6513-47BB-A25A-A436D7F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F84D-FD07-4EE5-82F2-A7A32C8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626C-C1B5-4882-AC34-B9F2FACC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5653-99CE-4289-A071-462F6969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5E6-321A-4A55-8572-76F4DD26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75A-FA71-471B-B97C-6CB739D8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078-6BAC-4B66-ACB3-D225C261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058-B1FB-4691-9CB8-2082E9C8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520-DBF8-4423-8A04-2D0EA330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F45-5401-4670-93D1-89E23A5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A18-9CCF-4FB0-867C-97832A0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9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5AD1-861B-4FAB-9110-F86D8FDBDF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9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SWFoxBanner2011_Wide_NO_DiscountBlurb_Animated"/>
          <p:cNvPicPr/>
          <p:nvPr/>
        </p:nvPicPr>
        <p:blipFill>
          <a:blip r:embed="rId2"/>
          <a:stretch/>
        </p:blipFill>
        <p:spPr>
          <a:xfrm>
            <a:off x="6172200" y="5791320"/>
            <a:ext cx="2571840" cy="4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C2C8-A4B4-4598-9693-716253696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Easy Multi-threading With Visual FoxPr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Kevin Ragsda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VFP and multi-threading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o execute VFP code in another thread, you must build a MTDL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e can create multi-threaded DLLs in VFP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UT, VFP loads the DLL in the same thread as the main applic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 multi-threaded DLL in a single thread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hree utilities for MT in VFP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mus Rusanu (helper DLL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alvin Hsia (assembler code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hristof Wollenhaupt (helper DLL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same DLL as the earlier demo, this time using Christof’s DMULT.DL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Introducing DMULT.DLL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++ DLL written by Christof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an accept a COM object or string referen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reates a new thread, initializes the apartment, and loads the COM serv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e’re going to be using COM objects in this sess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Using DMULT.DLL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eclare the func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ree parameters: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COM server to load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Method to run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Callback object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Parameter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rver name and method must be sent in Unicod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STRCONV(“MyServer.MyClass”+CHR(0),5)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STRCONV(“MyMethod”+CHR(0),5)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onvert callback from a VFP reference to COM referen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loCOMRef = _VFP.Eval(“loVFPRef”)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 else can I do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llocate memory, pass the address to both threads, and use SYS(2600) to exchange data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nter-thread communic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vents, critical sections, etc.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Visual Foxy FeedReader Pro Applic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reating event handler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vent handlers can be any VFP objec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dding properties/methods to the event handler objects extends their functionality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rror-checking/handling is very importan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bout this session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93640" y="1098720"/>
            <a:ext cx="8093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s session provides an introduction to creating multi-threaded applications using Christof’s DMULT.D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s is an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intermediate-level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ses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Pre-requisites: Knowledge of creating, debugging, and deploying MTD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100+ simultaneous web requests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very thread is a new instance of the VFP runtim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Global object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Work area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You can use CURSORTOXML() to pass data back and forth, though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ifferent projec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Harder to debu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ore planning involved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ifferent runtim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Unzipping large zip files, with notification via a Desktop Aler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ulti-threaded VFP apps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are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possib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Using Christof’s DLL makes it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easy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2120" y="3151800"/>
            <a:ext cx="7635600" cy="1657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member to fill out your evalu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ssion slides, white paper, and code samples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will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be upd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bout m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een using FoxPro since 1993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Occasionally blog at kevinragsdale.ne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requently tweet @KevinRagsda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orld-champion Mario Kart Wii rac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Books, Articles, Award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hat is multi-threading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dvantages of multi-threadin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n introduction to Christof’s DMULT.DL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reating event handler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al-world (not “Hello World”) examples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 is multi-threading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ability for your app to do many things at the same tim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rees up your user interfa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llows the user to follow her workflow, instead of your apps’ workflow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dvantages of multi-threading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sponsiveness of your UI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sponsiveness of your UI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sponsiveness of your UI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800440" y="3124080"/>
            <a:ext cx="3484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estion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any things would be easier to do if I could run them in a background thread. Is there a way to create multi-threaded applications in VFP?”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dvisor Guide to Microsoft Visual FoxPr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ptember 2006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nswer from Christof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re’s a clear answer to that: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It depends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20:40Z</dcterms:created>
  <dc:creator>Kevin Ragsdale</dc:creator>
  <dc:description/>
  <dc:language>en-US</dc:language>
  <cp:lastModifiedBy>Demos</cp:lastModifiedBy>
  <dcterms:modified xsi:type="dcterms:W3CDTF">2011-10-28T07:17:07Z</dcterms:modified>
  <cp:revision>29</cp:revision>
  <dc:subject/>
  <dc:title>Easy Multi-threading With Visual FoxP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3</vt:lpwstr>
  </property>
</Properties>
</file>